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3313-2DD6-4D0B-89EF-8FD35CDC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VI of the EIIP document series address completeness che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gaps may be the result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lutants unaccounted for due to lack of credible 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cilities that are missing or unaccounted for due to incomplete source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urce categories that have not been considered due to lack of credible EF or activity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heck existing inventories and permit files by source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1093680" y="47304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3200040"/>
            <a:ext cx="60199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Same facility in inventory under different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1603440" y="457200"/>
            <a:ext cx="3443400" cy="2583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B1F-6E78-4750-9AD0-25567B36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4B7-C290-4C00-A9F1-FD8D4676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393-9C34-497B-BF00-A2995AF2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222-F299-48F9-B4B2-980173C8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718-2368-4D9A-802A-9C9A14E7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611-9396-4977-A239-FCACF412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679-C7D9-4792-8A43-1F572D0A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CF3-1EBD-43CC-9E67-6EA792A6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AA5-4FB9-412E-8FD2-C1BB35A3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1B5-C365-47EB-BCD2-C1DDC53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41C-E0D7-4E90-B6E0-7CA295E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2B2-B727-46BE-B776-2A31710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8257-4718-48A4-8A38-1719EE0FF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A/QC Exampl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002 Point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Parameters:  height, diameter, temperature, velocity, and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 and invalid emission release poi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 and invalid parameters associated with fugitive emissions releas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stack parameter default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 and invalid emission release poi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 Release Point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g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Fugitive (stack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ical, Horizontal, Goose Ne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ical with Rain Cap, Downward Facing 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invalid emission release point types based on source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g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fug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o Step 2 if Emission Release Point Type is fugitive and to Step 3 if Emission Release Point Type is non-fug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 and invalid parameters associated with fugitive emissions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Stack Height is between 0.1 and 100 ft, replace remaining parameters with defaults.  Proceed to Step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Height is invalid, replace all parameters with defaults.  Proceed to 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ugitive Stack Parameter Defa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ight:           10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:  72 ˚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meter:       0.003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ocity:         0.0003 ft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w:             0 ft3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 parameters to the following min/max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ight: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– 1200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*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 – 1800 ˚F, Verify T is greater than 250 ˚F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inera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meter: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– 50 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ocity: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 – 100 ft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out of range value is acceptable for source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 parameters are acceptable, proceed to Step D. If any parameter is missing or out of range, proceed to Step 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98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internal consistency between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Height &lt; Stack Diamet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ack Height &gt; Stack Diameter, replace all 5 parameters.  Proceed to Step 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ack Diameter&lt; Stack Height, evaluate Flow Rate Consis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Flow Rate and Calculated Flow Rate are within 10% of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rate =((Pi)*(Diameter/2))2 *Velo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nternal consistency is met, process is complete.  If internal consistency is not met, proceed to Step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missing, invalid, or inconsistent parameters associated with non-fugitive releas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missing, invalid or inconsistent parameters using following hierarchy.  Proceed to Step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d flow rate or velo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C default unless SCC is 39999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T Code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C Code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tional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ight:           10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: 72 ˚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meter:       1 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locity:         15 ft/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:             12 ft3/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Stack Parameter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stack parameter default flags to indicate how stack parameters have been defaulted in the inventory. 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= Original value (not a defa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= SCC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= SIC Cod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= National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= Calcula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MACT Code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906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Identify and Fi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mission Data Ga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additional searches of databases to identify appropriate surrogat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existing inventories to spatially allocate emis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polate emissions from other geographic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emissions data from past inventories within the same geographic area.  Includes both future growth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: Expected growth in an geographic region by industry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strategy:  Expected impact of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modified or addi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9067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missions for Pollut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augment for individual compounds when a compound group is repor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ants are often not speciated in original data submitted to agency.  Examples include:  PM2.5, PM coarse and fine, metals such as mercury and chro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methodology exists for some pollutant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ury speciation 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ium speciation factors for hexavalent and trivalent chro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A NEI Data Augmentation Point Source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TE for PM coarse and 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9280" y="1657440"/>
            <a:ext cx="8237520" cy="20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C Activ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duplicate 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facilities having different IDs, but identical latitude and longi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names – missing coordinate data, address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names – change in ownership/name, use of subsidiary names, use of abbreviated nam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top emitters of each pollu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facilities with same reported emissions of each pollu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0880" y="3809880"/>
          <a:ext cx="8178840" cy="1790640"/>
        </p:xfrm>
        <a:graphic>
          <a:graphicData uri="http://schemas.openxmlformats.org/drawingml/2006/table">
            <a:tbl>
              <a:tblPr/>
              <a:tblGrid>
                <a:gridCol w="762120"/>
                <a:gridCol w="1282680"/>
                <a:gridCol w="1022400"/>
                <a:gridCol w="1047600"/>
                <a:gridCol w="997200"/>
                <a:gridCol w="1022400"/>
                <a:gridCol w="1022040"/>
                <a:gridCol w="10224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TI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acility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ACT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IC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H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Emi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ta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37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Ener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-1 – Utility 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NC05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xboro CP&amp;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-1 – Utility Co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1200"/>
            <a:ext cx="7935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QA/QC:  Example 2002 NEI for H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00520" y="2457360"/>
            <a:ext cx="0" cy="4003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6800" y="2874960"/>
            <a:ext cx="1357200" cy="39204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itial Format &amp; Data Integrity QC Che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2960" y="2714760"/>
            <a:ext cx="14349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mat QC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ile readabl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datory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Mandatory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alid c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nge che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2480" y="4937040"/>
            <a:ext cx="0" cy="5335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19400" y="4416480"/>
            <a:ext cx="1450800" cy="52056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end/Merge data reco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2640" y="4414680"/>
            <a:ext cx="15192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 database cove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facilities, source categorie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llutants, geographic ar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6280" y="4254480"/>
            <a:ext cx="133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Data Sourc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T and sec. 129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GU C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46400" y="5457960"/>
            <a:ext cx="1298520" cy="43956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ment data el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9560" y="5578560"/>
            <a:ext cx="12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 data needed for emissions mod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2920" y="5586480"/>
            <a:ext cx="1239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ck paramet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data fiel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 fla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79640" y="5884920"/>
            <a:ext cx="0" cy="44748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76400" y="6332400"/>
            <a:ext cx="2313000" cy="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2640" y="1991880"/>
            <a:ext cx="0" cy="434340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00560" y="1989000"/>
            <a:ext cx="1581120" cy="0"/>
          </a:xfrm>
          <a:prstGeom prst="line">
            <a:avLst/>
          </a:prstGeom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27720" y="3059280"/>
            <a:ext cx="1905120" cy="34272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aft  NEI to public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61040" y="3054240"/>
            <a:ext cx="7030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/L/Ts, Industr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PA,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3480" y="2003400"/>
            <a:ext cx="0" cy="32220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74080" y="338292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35920" y="4156200"/>
            <a:ext cx="0" cy="3981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58080" y="4545000"/>
            <a:ext cx="2396880" cy="38412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PA evaluates &amp; incorporates revisions and new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5322960"/>
            <a:ext cx="1241640" cy="28080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 Q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82680" y="1789200"/>
            <a:ext cx="1406520" cy="679320"/>
          </a:xfrm>
          <a:prstGeom prst="rect">
            <a:avLst/>
          </a:prstGeom>
          <a:solidFill>
            <a:srgbClr val="bcffbc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PA Receives S/L/T data in NIF  via CD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32680" y="4933800"/>
            <a:ext cx="0" cy="3985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58040" y="6035760"/>
            <a:ext cx="1295280" cy="30168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 NE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2880" y="2276640"/>
            <a:ext cx="12034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QC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ission Outl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pl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T Code assign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43840" y="560880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72280" y="3757680"/>
            <a:ext cx="1712880" cy="392040"/>
          </a:xfrm>
          <a:prstGeom prst="rect">
            <a:avLst/>
          </a:prstGeom>
          <a:solidFill>
            <a:srgbClr val="bcffbc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ernal reviewers submit data/revisions to EP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97560" y="2363760"/>
            <a:ext cx="1241640" cy="28116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Q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32680" y="4933800"/>
            <a:ext cx="0" cy="39852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56520" y="2662200"/>
            <a:ext cx="0" cy="39708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28760" y="3622680"/>
            <a:ext cx="1359000" cy="392040"/>
          </a:xfrm>
          <a:prstGeom prst="rect">
            <a:avLst/>
          </a:prstGeom>
          <a:solidFill>
            <a:srgbClr val="ffff6d"/>
          </a:solidFill>
          <a:ln w="25560">
            <a:solidFill>
              <a:srgbClr val="a66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C &amp;  Augmentation of Locational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22480" y="322596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22480" y="3983040"/>
            <a:ext cx="0" cy="399960"/>
          </a:xfrm>
          <a:prstGeom prst="line">
            <a:avLst/>
          </a:prstGeom>
          <a:ln w="25560">
            <a:solidFill>
              <a:srgbClr val="a6698e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56640" cy="157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Duplicate Facilities and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pollutant emissions at potential duplicate faci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ll pollutants are duplicated, delete one fac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ly some pollutants are duplicated, delete only emission records for duplicated pollu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3581280"/>
          <a:ext cx="8128080" cy="1977840"/>
        </p:xfrm>
        <a:graphic>
          <a:graphicData uri="http://schemas.openxmlformats.org/drawingml/2006/table">
            <a:tbl>
              <a:tblPr/>
              <a:tblGrid>
                <a:gridCol w="758880"/>
                <a:gridCol w="1272960"/>
                <a:gridCol w="1016280"/>
                <a:gridCol w="1074600"/>
                <a:gridCol w="957240"/>
                <a:gridCol w="1015920"/>
                <a:gridCol w="728640"/>
                <a:gridCol w="13035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NTI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acility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MACT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SIC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H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ata 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e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370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-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ty C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, Mercury, Nick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Lead.  Merge under one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INC05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xboro CP&amp;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, Mercury, P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Mercury,  Merge under one Unique Facility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3720" y="197172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Outliers and Missing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changes between 96 and 99 emissions by facility, category, county,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variation (high std deviation) within 99 draft data for facilities within source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facilit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op emitters for each pollutant nation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 each facility based on emissions nation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top emitters for each pollutant/source category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outliers by contacting organizations who provided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corrections to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missing facilities and source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Conten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75896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Outlier Q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ant Nam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Faciliti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6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 Point Source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5E+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 Point Source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Site %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5E+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Emissions (tpy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18E-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4E+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35E+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Emitt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merican Waste Centr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fill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I Facility I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IMS1091185 (Stat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als of the 2002 NE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o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tandardized format for data input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ly use best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A/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number of missing 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errors in geographic coordin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number of missing stack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consistency in nonpoint sources across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quality of emission estim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number of nonpoint source categories by increasing number of categories inventoried as poi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criteria and HAP emissions where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2002 N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QC/Q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rrect duplicate facility, site, and emiss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rrect erroneous emission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ordin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tack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correct forma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QC conducted by E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QC - identify potential errors with form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Locational Data - verify facility lo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stack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QC - identify emissio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A/QC:  Example 2002 Format 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C Activitie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 data integrity (relational data base with required key fiel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properties of data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type (text, numeric typ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gth – maximum length of each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ory fields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code values with acceptable values in cod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uct range ch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imum and Minim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ve Actions resulting from QC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tial integrity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duplicate records and records with null and zero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with agencies and tribes to correct records by creating needed records or removing 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 invalid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gn new codes not included in code table, e.g., additional HAPs that are not included in Pollutant Cod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Che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agencies and tribes to verify that reported value is correc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How Do I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ugment Location Coordin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coordinates to correct units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all emission release points are within 3 km of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sure coordinates are in correct cou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 bad/missing coordin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Locational Coordinate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coordinates within a facilit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tacks where distance between points should not be &gt; 3km,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verage Site Latitude and Longitude calculated from valid points to replace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67406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Locational Coordina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bad/missing coordinates outside of county boundary using the hierarchy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cility Speci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Site Latitude and Longitude calculated from valid p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eocoding 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QA and correct address and zip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use Geo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ct Match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ar - match to single street blo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p code +2 Zip code 5 (47% of GEOCODER match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p code 3 - match to 3 digit zip 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big - match to one of possible multiple street seg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from previous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mpany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aps from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Site Release Point at County Centroid if coordinates cannot be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477120" y="2895480"/>
            <a:ext cx="2514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w Do I Augment Locational Coordina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2388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Assign location coordinate default flags.  Example from 2002 N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7240" y="1868400"/>
          <a:ext cx="7459560" cy="3944520"/>
        </p:xfrm>
        <a:graphic>
          <a:graphicData uri="http://schemas.openxmlformats.org/drawingml/2006/table">
            <a:tbl>
              <a:tblPr/>
              <a:tblGrid>
                <a:gridCol w="1204200"/>
                <a:gridCol w="6255360"/>
              </a:tblGrid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efault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6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6fa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is to within a unique intersection or within a single side of a single street bloc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is to a single street block but the correct placement within block is unknow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 code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to a 5-digit zip code, plus the first two digits of the 4-digit extens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to a 5-digit zip 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code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to multiple 3-digit zip codes based on postal service Sectional Center Facility (SCF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ch is to multiple street seg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tyc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y centro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 Fac Tab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found in the NEI Historical Facility 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-Av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of accurate coordinates of other emission release points at the same s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8:18:58Z</dcterms:created>
  <dc:creator>apope</dc:creator>
  <dc:description/>
  <dc:language>en-US</dc:language>
  <cp:lastModifiedBy>Anne Adams Pope</cp:lastModifiedBy>
  <dcterms:modified xsi:type="dcterms:W3CDTF">2007-04-29T20:49:27Z</dcterms:modified>
  <cp:revision>4</cp:revision>
  <dc:subject/>
  <dc:title>QA/QC Example: 1999 NEI</dc:title>
</cp:coreProperties>
</file>